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8E990-55AC-4817-BD54-F4974E4951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7FE29-24F1-4C67-AC86-FFBE18F8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496FD2-3BCC-4D1C-97C8-F7A76630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CCA649-3931-477C-A6F4-F421B8D1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C46F48-03C9-4D2B-8002-CF560A5B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D48EC9-D7B2-4FAC-A9DB-051FE6E4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12DEAC-DB20-4662-8632-DCBCD6FE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6C7D52-788E-4797-A9F3-AC6E8DD8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EA644A-37F1-4C79-AE24-27190803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6266DB-6F70-4676-8C94-77BD6390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DDC8EF-B4E0-4726-9EC9-A9BEC7EC68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48258-8247-435C-A91F-11CBB22649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0FA6-CD24-44FC-9F4F-84FA67B3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67AB7-2215-4A56-B39A-029E2C4B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34093-97F9-4D78-84B4-C00FCB78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DF781-9BC3-47DA-B00C-E3431E21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B6421-24B2-43E8-BC12-11AAF9B7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45085-C82A-4B15-A6E3-06B6D121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C669D-8D18-4ED1-9459-1608FA42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E9013-3910-4B07-AB6E-F19C1A91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B2A87-3095-4E64-B818-4A13008C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70311-CEF4-43F6-8931-FE16B54C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4B865-0FF0-4B8A-80C2-724965E3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F4F25-2213-4C92-B941-1439E55BFA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34B61-A1B7-491B-B259-19A2DAAC1E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6698CB-A6EB-4C7F-9225-A06E769F0A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08ABB4-5886-42BE-86F4-2B1DC1D7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CDEF03-DDD2-4D50-BD6F-B5D19979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C3B3F1-6B61-4A5E-8BC0-4FCFF0DA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445DB9-BD51-44D5-B4F1-DFEF477C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488657-F052-4F5B-A52B-E676C620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3B9F46-3937-4387-A462-9E9E2617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9438F5-C91C-42E3-B896-A7AF7F3E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D954D1-9AD1-46E8-BD84-4A6B8AEE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887B7-AE9B-4B64-9B87-684AB315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A4557C-4F42-472E-9C4F-7D46DBB7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F21FC6-A912-46BB-A847-2319E501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263170-839B-428A-AA6F-65761E922B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E9FB5-1975-43F9-AC23-9D7565E5D9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DB84C8-4A19-460E-BF53-984E7B50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75C81-095B-466A-887A-9F5E2C38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D367C-581D-4B65-BE75-6ADBE7A6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8EAD5-2E82-4FBE-8350-E62AC582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E3C27-2E7C-4AB0-BBA9-2152462F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A006C-461F-4767-A63D-AB88466D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2DFAC-B967-49FB-A8D3-49FEAEEE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D571B-B5DA-4CDF-A027-2BF14FE3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30E6E-0ADD-4C93-8C60-0F309C6D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C4833-CA12-4FF0-BD0E-2AF3B32D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4C41BB-343B-4855-85EB-5CB7F401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91D08-1A8A-4578-8BB5-40448D68B9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D5094-3D1B-43CF-96A8-0C034A845C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77A0C-EBBF-4685-901C-D5F849C0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C7238-A018-49C9-B227-53EEDEC6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5728D-A1F2-42E7-98AA-0E324BEA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9A24C-D0A6-4FC1-992E-458CD44A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6684C-9EC4-4C15-B6B3-42C57365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F18AD-2415-4D3C-B2DD-58F8CF2F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191B3-8B5A-4262-B3A8-F49063DF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8AFD6-A563-468B-9FC1-C804C7BE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2B6FD-5600-49CD-804A-2D53EDD4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CD2D1-63EB-4B50-8F56-318C847B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C7C41-713F-4349-A23C-8681258D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F3E74-6200-4453-9305-6551C0AE1E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75A18-64C2-4409-9170-7C873283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B4A82-ED55-467D-AB6C-B1970680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814DA-B090-4370-88AA-75D4CF0F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8B43E-37C3-4732-801D-CC2975CE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DDC2E-71E4-4EA2-9FFC-FF43CD8D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489DF-BEC6-457A-8CC6-FB3C3423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DF0E2-6D11-49E5-9CCE-AC7565A1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041FF-9656-4BFB-A289-1AF5AF0A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AD282-310F-442B-8E21-24FBC510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28A06-FF58-4F76-B9EF-31FC9E3F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8C622-C500-4E91-A9C4-0E95747D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DFC20-28A1-46F6-81A7-245D775F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9B9C7-C844-4553-8569-A1A027D9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28532-9BA4-471E-AFD2-655BFFB4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3162F-F9F1-4958-868D-8B9D3ED0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87859-DEBC-49D6-A4BB-6ABEDBBB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FC286-C788-4694-B4AE-B1DBA743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BEBE4-A200-424F-9D20-D8CCDDBC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0ABD9-0DAB-40CA-BC18-4BE37B4C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651B6-C20D-4B6C-AD66-5C87B40E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1F04A-0385-4509-889C-5C878875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A36AB-60D4-42FA-9A8E-863F08FC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A0869-CA9F-4A86-9B82-1E3DB424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49321-D31F-4E14-8F2E-AC0FE6B8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6FB76-CEB5-4357-A96E-C3523C92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4D1E1-0A62-4DC2-AA9A-DF265BDB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95E4C-1DCF-4615-814C-40DD940C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366B7-1543-4137-8698-8E35DDBF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FC13A-2974-4515-AB37-7E0F0CAF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A906A-52D7-4807-8BCD-59D62238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4AE9E-F3F3-4068-95D8-4C9639CD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93561-B202-4420-89B0-DF6DB907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ABDCF-E06D-4FF7-99E9-483F0F68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5B344-F315-4E33-AD95-A042A663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0C2A6-0FF2-4926-AE77-325E66FE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AA1BA-6892-4CC6-A6F9-BB1A202A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B1FAC-EAA8-4CD2-B2E7-99356F3F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76956-F42D-4041-8F9E-C9F28D77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AC541-E311-428D-9E1D-14968279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93881-0199-4176-B8A3-1037294B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DBB0F-8114-452D-87C5-FA9F3B2B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67EA46-F72B-4DAD-B689-9F5624D0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87CD3-E91B-4C1D-A494-0F749C03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6D974-87E2-4653-A574-72F91EBE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545070-C464-4C6A-979C-D72EC08B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674B8-7FA3-4B94-A064-D7F26CDE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7DF91-BB05-47DA-80C3-B539C601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01A6-06D4-4C10-BD9E-98CD3A5E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68F7D-3E1C-4C2F-BB0F-B900431B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6AB30-9F2E-46E6-A843-33AEC341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741F5-F968-499C-9619-021B3B31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B3B93-B903-4BE5-8E57-2201F79C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C19C4-9AC9-40E5-8540-50DB94CE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8F838B-9118-4B8E-B279-04069ACA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B8D424-2681-432F-A7E9-19977100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7081C-B907-4B64-AAED-55116443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9B8C0-D1FB-4C3D-97A9-10C9BF7A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29B63-1408-4668-8E1C-9D32B394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29E374-BCEA-4993-B0A2-C833D84A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4A536-C0B4-403B-8379-F837261C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F8364-3FF3-40AB-A343-E94322C3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84C64-DD9D-472E-BDAE-5175CA93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FA9E3-0BD6-46D1-A7A1-601DAA80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E34FC-75E7-4D3E-8187-32ADBDC1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B2A6B4-0214-42A5-AB04-8503D145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AB920-A672-4C77-9BB1-DA785879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99ED59-06CC-4C5D-84B1-C63F91ED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7C8A12-7F25-46F4-A64B-EC0090FD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5847C9-C859-4CB7-B5C4-BAB8F252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7FF50B-D6E4-47FD-99DD-A1EBE165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6DCA3-2D34-449C-8EF1-B3EFB904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E2D40A-8B1F-4FF3-8154-984D03E9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C0C9BE-0753-46D2-8C3C-4119F0A9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6AD430-53EA-4BF7-9BC2-9C2E5698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5A32B0-C501-4C24-9372-51B36A38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A1F4ED-4CC7-46C2-A036-28371F17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1AD75F-185D-492E-83E0-675A8498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D87B84-978B-46F5-81B0-86B80B1A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FE6414-A952-4886-A9AB-F45475DC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D9A1AA-F469-47C6-98B9-52317FCB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57FDD9-2A45-4F7F-9D4C-D5CB8F59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C56CA-FAAC-4FB4-AE7A-69EC61A9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840838-0ECF-4FF0-BC4A-9BB75E39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C37C0F-0D78-4A6F-A41F-F85F539F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3B9E86-8321-4D28-9800-AA8634CC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5F2358-A1C9-4F5A-96F8-A42A7F10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AF904-A17D-4079-9B88-21C01736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D633B4-2792-4F00-A50E-064D135B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85C39-A623-4D6E-96B9-64155544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71053C-981A-48C6-923C-DC5DB156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BB07C-E86F-4FD2-8A77-CBA9F312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E2D208-DD2F-4E0E-A30A-5DDE2D25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EE70D-E4D0-41D9-8E71-7AD2A99A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D076B5-9BFD-488F-A6F2-977DBED1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11C928-DC2A-4E9D-808A-EAF6EA77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F84887-80E1-464A-801B-8C975131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32F502-F690-4630-A95B-D7B5E076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43D673-7303-4BCD-B080-900F723C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FB70F9-38A1-4E45-84D4-9A8EA0BD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4ACA5B-5434-4503-BDA8-0053A519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4EC28D-1EFC-4C95-AB8D-308CB00A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63673A-18C9-489C-A050-7570A420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C36889-C881-4DF9-BBA6-048A2FD1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9E364F-022C-4FAF-B5D2-0A18FDFF3B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90C00B-D254-4EFC-8F6D-B0FB848C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E50C97-553B-4906-B911-6CCA7EF0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7BD7D9-36DC-431F-A79A-A1C98C08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0AE64-1B0C-40F2-ACB1-0C7F5486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FC2106-C8DF-46A0-9A14-607B434C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7C9F73-3B5A-44F8-8497-F2CE83F7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D52239-DED2-4012-A5E9-27178A2C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CE2087-390E-43EC-B33F-25ABF981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453F16-3CB4-431C-96D8-02587544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B43012-DE0F-48A5-B434-546C8605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DCEF9D-D371-46B1-806A-6A40B297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E6A05C-4E12-408B-B4D4-18848796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80EF8A-B0D8-40BB-AB34-7B0C81F4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DC4108-6222-456E-BC44-8A7008CC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C8338F-EFF1-41F9-B1D0-A21C0D42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0B5CB2-26CA-4D48-A3A6-2485FA93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050061-C8B7-4E76-84C2-9AE275D5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735130-E0CE-4104-92A0-E41CF855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396D70-1BF4-427B-B589-60B805BD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792E3D-5B1B-4CCC-8A3E-414DC2BA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9E6350-6E5E-49BD-A6A8-38643F2E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2E784-6FD2-4945-82CA-7D104969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A2E699-B09A-40DB-9FF6-65CB0B1F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69C600-2CF3-4BA6-9DDD-4347AD6B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998B14-36A0-461C-9065-ED30672A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8D8F19-D799-4F93-8755-5E129A8C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5F08C8-A636-4759-83F6-85639AEF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D0DD93-6B31-40BD-8538-8A77F493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0C2A32-305B-4BC4-978E-7C88D1F7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7EC393-66A7-4598-A2EF-6CCB181B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2F3C24-04FC-4DF6-A50C-8DBD0AF9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F54AF1-7474-427B-8F0D-A4CF085A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196BAD-1E79-4B7C-A662-D7B21C55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F1C5E7-9130-431D-BB2D-19EA0E90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ADD188-E16A-467C-8763-60718E51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F254BE-4DE2-43F1-8E24-F5F83D5E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DA9E21-B869-4830-84F0-2808E23D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E04AE7-FB4A-4D52-8140-F88DA608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C0A365-1327-4FA8-B109-A24E4CE2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C0C0E3-E6BC-48C8-9058-69B7D891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AC0112-E736-4970-883D-D9F2AE06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920E26-C016-4581-A5D4-E41F4450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5B74BB-D3AE-428F-94CB-66B86331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553BF-E82F-453E-95B4-4884ED67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599EB7-0B23-404E-82A4-C9B499E3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98D475-4113-483F-BE77-1EC997F4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C0FDBE-C362-4C85-91E6-35782CC3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2F9D1-B5D5-4998-AA05-A1D97756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EAB9DA-9AD2-4F3E-97F2-03457BA1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B98F00-77A0-4B6B-AA2A-BCD129FE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FF99BF-E4A2-411B-AB47-EA4DC353F1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F1CD8-40FC-475C-A245-5397B8A796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BB13C-44F1-43C4-BC74-773FAF79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9C37-3AE7-4C7B-AEE4-0311595B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4B179-237F-460B-B674-C4DD1B1D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C8754-3222-4488-874F-47B72E1A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C0A3B-B23E-4D3F-AF53-ECD556E7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12E72-789D-4CEA-86AC-807F6BA7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50E2-113F-408A-8776-2A55C6A2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87422-BA1E-4B9A-B63C-E7F19C2F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8779C-907A-4F43-BE23-E0DDDEB0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F9B6B-C179-4A6F-8966-BA104FC7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8773B-EF83-49DD-BF68-EBD47A83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BCD7A-7F40-4516-8452-9950F6C9FC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09D4B6-78BD-4577-BA6A-F5568086EE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A8801-3127-49E9-811C-0A86F178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EE3C90-C706-48EF-8E6C-958492F5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7C158D-A7A8-496E-A7AF-EAF5F03D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E6EDC-E6C5-4842-BC10-9E1FFDFF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57DE6-4AF4-4C19-A375-ED8F4E89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6983DA-8287-4DA2-9A55-B05A501C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388ACA-0E46-4F5F-B951-52D20F9D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8B7A46-44CC-4EE3-878C-3E3F170F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DB3782-4674-48AF-A507-8B648ABD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260AAA-83B6-406C-B7B4-B3DF73C4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F6EBB7-3DE4-4BCE-A1A3-F500373B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8B9B-AD86-4E9E-BB62-E54EF2B3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F705FA-E832-47AC-B368-9E94831626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5FDAF6-6EB9-4D80-B05A-4B293DF78A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4B88E5-590B-45B3-B3B2-0C4A11E7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C675B7-DCC4-4006-8F67-28BA6891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54EFC4-3AEE-407A-BEE2-76D575F6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03615D-EE3C-4B11-B6E2-C68AB757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90B569-B22A-46DF-9E48-BDF431F1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B6D78A-6335-477D-B255-2F7DA4CB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B56095-B3B4-4289-A2E2-5327C045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6934B7-14FF-4AAA-AA9A-E39B3C86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67230-EFFA-4170-9022-4C093557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7508A7-67A3-4EE0-837E-C0FB2A21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AE7851-2A56-44CA-BE0C-65CF5898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E7F5A6-19CC-4B5D-803D-8557BAAFBD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B84B3-183B-494B-B661-069A7DE519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374A0-6149-43FA-B47A-5E2E90B2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6BA0F-C6CB-475A-91AB-29C15796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9E249-05B4-442F-A0B0-F4748366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4071F-FF9D-4500-8299-27096E06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154B8-D51B-452E-9971-D2F8F1CF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EE72D-B5CD-4BA1-A198-2D629BBD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F1567-A697-448D-89DC-31B49767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1F114-0656-4694-993C-B452BEF2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C5DA3-6D05-45DE-9E53-A8E0A7A5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E5180-FDD3-4642-A403-A25E726C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44C18-D711-41DA-9320-28050378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03916-B8EA-439B-89F3-4C94FCDC97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824581-5171-40D8-B33F-83E9AB7F13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2169FF-4B59-48B5-ACA7-6423C6AD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070769-F0BC-49F0-B154-8F1542D8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DB03A2-9083-499D-A603-7CCF654C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8CAEF5-B7B6-4C3A-A7E6-8D94ECCC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F00DE-351C-4E38-9EA6-38661EB7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77A61F-561B-4800-B91E-FE805A9F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B468AA-A3FE-494B-88D3-508779CC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48CFCF-9DB4-4A83-98AF-65556716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0DCD7C-604D-42C7-9163-353FC6B6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0C904-DB05-4026-8FED-23D75E73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29297-A62B-45AA-A989-8206655A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88F054-4FD8-42C9-BD43-59900E7BBC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032B31-D147-42C7-A889-CA21A6F094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282E07-CFE1-4F6C-8CCB-36C3AF59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61484C-8277-4FED-8192-E80ADF85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5846-7D48-4353-8F34-566637E1821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B542-1790-4D1B-A16C-122EBB2E90A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1898-6DC0-45AD-BEEC-0DB515827A7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C93C-FAC5-43A6-8B6E-F26669F8D7B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5546-DE2F-4B2F-81C3-F6AA5384DC6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7EF1-F857-4BC0-B446-67E5634B039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5140-45C3-46FF-87D1-10EF8D5836C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ECBD-1E81-4618-BF3F-003D7614BE7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C476-2B4D-4055-9C17-126813343FF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96C0-D86F-48BB-9D0D-6AE7A5E898A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D44F-9FEE-46A3-A101-438B9C1CF00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A09B-B443-4ADB-BDBF-79622A5F457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BDB9-0213-49F3-B096-33A4ED999B1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C8C8-8C2A-4592-AAC5-D710DEE2AA6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9F3F-7E8C-4507-A29B-471046D78E1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A4B9-4D55-4757-853F-2C1DF933DBB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FD82-08EC-465E-98B8-B1966B26EA8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B747-5E5E-4AFD-B7B1-835F9C99E69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549C-9369-46F1-9752-CDA6ED82335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A620-84A1-4977-8607-69BF37130D7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8552-667E-4A66-A1A9-FEC5871C868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C181-AB9A-43A2-93F4-A6F89F772E5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63F0-0A6A-431B-BAE3-F90D461C5DB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AAB3-BB19-4B6D-A16C-F7BA13D118B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6284880" cy="360"/>
            <a:chOff x="2284560" y="2448000"/>
            <a:chExt cx="628488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62848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6284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9"/>
          <p:cNvSpPr/>
          <p:nvPr/>
        </p:nvSpPr>
        <p:spPr>
          <a:xfrm>
            <a:off x="-87480" y="1744560"/>
            <a:ext cx="88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以内的加法和减法（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5"/>
          <p:cNvSpPr/>
          <p:nvPr/>
        </p:nvSpPr>
        <p:spPr>
          <a:xfrm>
            <a:off x="3043080" y="2716200"/>
            <a:ext cx="55908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2500200" y="2666880"/>
            <a:ext cx="65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整 理 和 复 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文本框 3"/>
          <p:cNvSpPr/>
          <p:nvPr/>
        </p:nvSpPr>
        <p:spPr>
          <a:xfrm>
            <a:off x="500040" y="701640"/>
            <a:ext cx="27478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文本框 4"/>
          <p:cNvSpPr/>
          <p:nvPr/>
        </p:nvSpPr>
        <p:spPr>
          <a:xfrm>
            <a:off x="425520" y="1325520"/>
            <a:ext cx="6865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树上一共摘了多少箱桃子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5" name="图片 5" descr="UH(}[R3C4R%_L(_0}CV@)51"/>
          <p:cNvPicPr/>
          <p:nvPr/>
        </p:nvPicPr>
        <p:blipFill>
          <a:blip r:embed="rId1"/>
          <a:stretch/>
        </p:blipFill>
        <p:spPr>
          <a:xfrm>
            <a:off x="519120" y="2270160"/>
            <a:ext cx="1160280" cy="960480"/>
          </a:xfrm>
          <a:prstGeom prst="rect">
            <a:avLst/>
          </a:prstGeom>
          <a:ln w="0">
            <a:noFill/>
          </a:ln>
        </p:spPr>
      </p:pic>
      <p:pic>
        <p:nvPicPr>
          <p:cNvPr id="1186" name="图片 6" descr="UH(}[R3C4R%_L(_0}CV@)51"/>
          <p:cNvPicPr/>
          <p:nvPr/>
        </p:nvPicPr>
        <p:blipFill>
          <a:blip r:embed="rId2"/>
          <a:stretch/>
        </p:blipFill>
        <p:spPr>
          <a:xfrm>
            <a:off x="1890720" y="2270160"/>
            <a:ext cx="1162080" cy="960480"/>
          </a:xfrm>
          <a:prstGeom prst="rect">
            <a:avLst/>
          </a:prstGeom>
          <a:ln w="0">
            <a:noFill/>
          </a:ln>
        </p:spPr>
      </p:pic>
      <p:pic>
        <p:nvPicPr>
          <p:cNvPr id="1187" name="图片 8" descr="77IGTCB()L2K7`V(}$0%OGB"/>
          <p:cNvPicPr/>
          <p:nvPr/>
        </p:nvPicPr>
        <p:blipFill>
          <a:blip r:embed="rId3"/>
          <a:stretch/>
        </p:blipFill>
        <p:spPr>
          <a:xfrm>
            <a:off x="608040" y="3591000"/>
            <a:ext cx="1071360" cy="801720"/>
          </a:xfrm>
          <a:prstGeom prst="rect">
            <a:avLst/>
          </a:prstGeom>
          <a:ln w="0">
            <a:noFill/>
          </a:ln>
        </p:spPr>
      </p:pic>
      <p:pic>
        <p:nvPicPr>
          <p:cNvPr id="1188" name="图片 9" descr="3ATM@2636JC)Z11VHPJ58%9"/>
          <p:cNvPicPr/>
          <p:nvPr/>
        </p:nvPicPr>
        <p:blipFill>
          <a:blip r:embed="rId4"/>
          <a:stretch/>
        </p:blipFill>
        <p:spPr>
          <a:xfrm flipH="1">
            <a:off x="1951200" y="3510000"/>
            <a:ext cx="1519200" cy="887400"/>
          </a:xfrm>
          <a:prstGeom prst="rect">
            <a:avLst/>
          </a:prstGeom>
          <a:ln w="0">
            <a:noFill/>
          </a:ln>
        </p:spPr>
      </p:pic>
      <p:sp>
        <p:nvSpPr>
          <p:cNvPr id="1189" name="文本框 10"/>
          <p:cNvSpPr/>
          <p:nvPr/>
        </p:nvSpPr>
        <p:spPr>
          <a:xfrm>
            <a:off x="396720" y="4457880"/>
            <a:ext cx="14050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还剩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5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文本框 11"/>
          <p:cNvSpPr/>
          <p:nvPr/>
        </p:nvSpPr>
        <p:spPr>
          <a:xfrm>
            <a:off x="2201760" y="4397400"/>
            <a:ext cx="1598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已运走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9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3"/>
          <p:cNvSpPr/>
          <p:nvPr/>
        </p:nvSpPr>
        <p:spPr>
          <a:xfrm>
            <a:off x="4935600" y="3854520"/>
            <a:ext cx="3165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54+96=35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4"/>
          <p:cNvSpPr/>
          <p:nvPr/>
        </p:nvSpPr>
        <p:spPr>
          <a:xfrm>
            <a:off x="4338720" y="5111640"/>
            <a:ext cx="37623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一共摘了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5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箱桃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组合 2"/>
          <p:cNvGrpSpPr/>
          <p:nvPr/>
        </p:nvGrpSpPr>
        <p:grpSpPr>
          <a:xfrm>
            <a:off x="0" y="101520"/>
            <a:ext cx="3035160" cy="525600"/>
            <a:chOff x="0" y="101520"/>
            <a:chExt cx="3035160" cy="525600"/>
          </a:xfrm>
        </p:grpSpPr>
        <p:pic>
          <p:nvPicPr>
            <p:cNvPr id="1194" name="圆角矩形 13" descr=""/>
            <p:cNvPicPr/>
            <p:nvPr/>
          </p:nvPicPr>
          <p:blipFill>
            <a:blip r:embed="rId5"/>
            <a:stretch/>
          </p:blipFill>
          <p:spPr>
            <a:xfrm>
              <a:off x="138960" y="101520"/>
              <a:ext cx="2896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5" name="组合 4"/>
            <p:cNvGrpSpPr/>
            <p:nvPr/>
          </p:nvGrpSpPr>
          <p:grpSpPr>
            <a:xfrm>
              <a:off x="0" y="197280"/>
              <a:ext cx="401400" cy="272160"/>
              <a:chOff x="0" y="197280"/>
              <a:chExt cx="401400" cy="272160"/>
            </a:xfrm>
          </p:grpSpPr>
          <p:sp>
            <p:nvSpPr>
              <p:cNvPr id="1196" name="椭圆 14"/>
              <p:cNvSpPr/>
              <p:nvPr/>
            </p:nvSpPr>
            <p:spPr>
              <a:xfrm rot="16200000">
                <a:off x="236520" y="36216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7" name="椭圆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94400" y="33084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8" name="椭圆 16"/>
              <p:cNvSpPr/>
              <p:nvPr/>
            </p:nvSpPr>
            <p:spPr>
              <a:xfrm rot="16200000">
                <a:off x="236520" y="23760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9" name="椭圆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94400" y="21240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0" name="圆角矩形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34776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1" name="圆角矩形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31824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2" name="圆角矩形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22680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3" name="圆角矩形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19728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文本框 3"/>
          <p:cNvSpPr/>
          <p:nvPr/>
        </p:nvSpPr>
        <p:spPr>
          <a:xfrm>
            <a:off x="198360" y="627120"/>
            <a:ext cx="806616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超市今天购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蔬菜。上午售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8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，下午比上午多售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文本框 4"/>
          <p:cNvSpPr/>
          <p:nvPr/>
        </p:nvSpPr>
        <p:spPr>
          <a:xfrm>
            <a:off x="488880" y="2220840"/>
            <a:ext cx="51627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下午售出多少千克蔬菜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文本框 5"/>
          <p:cNvSpPr/>
          <p:nvPr/>
        </p:nvSpPr>
        <p:spPr>
          <a:xfrm>
            <a:off x="519120" y="4722840"/>
            <a:ext cx="5164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超市还剩多少千克蔬菜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文本框 6"/>
          <p:cNvSpPr/>
          <p:nvPr/>
        </p:nvSpPr>
        <p:spPr>
          <a:xfrm>
            <a:off x="519120" y="3525840"/>
            <a:ext cx="59832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这一天一共售出多少千克蔬菜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文本框 3"/>
          <p:cNvSpPr/>
          <p:nvPr/>
        </p:nvSpPr>
        <p:spPr>
          <a:xfrm>
            <a:off x="1239840" y="2903400"/>
            <a:ext cx="3187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89+48=337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千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文本框 4"/>
          <p:cNvSpPr/>
          <p:nvPr/>
        </p:nvSpPr>
        <p:spPr>
          <a:xfrm>
            <a:off x="1038240" y="3435480"/>
            <a:ext cx="4138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下午售出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千克蔬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5"/>
          <p:cNvSpPr/>
          <p:nvPr/>
        </p:nvSpPr>
        <p:spPr>
          <a:xfrm>
            <a:off x="1303200" y="4170240"/>
            <a:ext cx="3187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89+337=62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千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文本框 6"/>
          <p:cNvSpPr/>
          <p:nvPr/>
        </p:nvSpPr>
        <p:spPr>
          <a:xfrm>
            <a:off x="1038240" y="4616280"/>
            <a:ext cx="47451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这一天一共售出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2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千克蔬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文本框 8"/>
          <p:cNvSpPr/>
          <p:nvPr/>
        </p:nvSpPr>
        <p:spPr>
          <a:xfrm>
            <a:off x="1165320" y="5405400"/>
            <a:ext cx="3187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50-626=124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千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文本框 10"/>
          <p:cNvSpPr/>
          <p:nvPr/>
        </p:nvSpPr>
        <p:spPr>
          <a:xfrm>
            <a:off x="1038240" y="5851440"/>
            <a:ext cx="47451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超市还剩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4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千克蔬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组合 2"/>
          <p:cNvGrpSpPr/>
          <p:nvPr/>
        </p:nvGrpSpPr>
        <p:grpSpPr>
          <a:xfrm>
            <a:off x="0" y="101520"/>
            <a:ext cx="3035160" cy="525600"/>
            <a:chOff x="0" y="101520"/>
            <a:chExt cx="3035160" cy="525600"/>
          </a:xfrm>
        </p:grpSpPr>
        <p:pic>
          <p:nvPicPr>
            <p:cNvPr id="1215" name="圆角矩形 13" descr=""/>
            <p:cNvPicPr/>
            <p:nvPr/>
          </p:nvPicPr>
          <p:blipFill>
            <a:blip r:embed="rId1"/>
            <a:stretch/>
          </p:blipFill>
          <p:spPr>
            <a:xfrm>
              <a:off x="138960" y="101520"/>
              <a:ext cx="2896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6" name="组合 4"/>
            <p:cNvGrpSpPr/>
            <p:nvPr/>
          </p:nvGrpSpPr>
          <p:grpSpPr>
            <a:xfrm>
              <a:off x="0" y="197280"/>
              <a:ext cx="401400" cy="272160"/>
              <a:chOff x="0" y="197280"/>
              <a:chExt cx="401400" cy="272160"/>
            </a:xfrm>
          </p:grpSpPr>
          <p:sp>
            <p:nvSpPr>
              <p:cNvPr id="1217" name="椭圆 14"/>
              <p:cNvSpPr/>
              <p:nvPr/>
            </p:nvSpPr>
            <p:spPr>
              <a:xfrm rot="16200000">
                <a:off x="236520" y="36216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8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400" y="33084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9" name="椭圆 16"/>
              <p:cNvSpPr/>
              <p:nvPr/>
            </p:nvSpPr>
            <p:spPr>
              <a:xfrm rot="16200000">
                <a:off x="236520" y="23760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0" name="椭圆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400" y="21240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1" name="圆角矩形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776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2" name="圆角矩形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824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3" name="圆角矩形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680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4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文本框 3"/>
          <p:cNvSpPr/>
          <p:nvPr/>
        </p:nvSpPr>
        <p:spPr>
          <a:xfrm>
            <a:off x="324000" y="851040"/>
            <a:ext cx="2376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购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6" name="图片 4" descr="4R0]34XC4@3S2F8XVUZ{DTM"/>
          <p:cNvPicPr/>
          <p:nvPr/>
        </p:nvPicPr>
        <p:blipFill>
          <a:blip r:embed="rId1"/>
          <a:stretch/>
        </p:blipFill>
        <p:spPr>
          <a:xfrm>
            <a:off x="1882800" y="1344600"/>
            <a:ext cx="1128600" cy="1197000"/>
          </a:xfrm>
          <a:prstGeom prst="rect">
            <a:avLst/>
          </a:prstGeom>
          <a:ln w="0">
            <a:noFill/>
          </a:ln>
        </p:spPr>
      </p:pic>
      <p:pic>
        <p:nvPicPr>
          <p:cNvPr id="1227" name="图片 5" descr="XO)V$CJE26TC@MT[9[DR``J"/>
          <p:cNvPicPr/>
          <p:nvPr/>
        </p:nvPicPr>
        <p:blipFill>
          <a:blip r:embed="rId2"/>
          <a:stretch/>
        </p:blipFill>
        <p:spPr>
          <a:xfrm>
            <a:off x="3832200" y="1477800"/>
            <a:ext cx="1144440" cy="758880"/>
          </a:xfrm>
          <a:prstGeom prst="rect">
            <a:avLst/>
          </a:prstGeom>
          <a:ln w="0">
            <a:noFill/>
          </a:ln>
        </p:spPr>
      </p:pic>
      <p:pic>
        <p:nvPicPr>
          <p:cNvPr id="1228" name="图片 6" descr="A[Z5QBOJOJ[MJK{3JP(7Q41"/>
          <p:cNvPicPr/>
          <p:nvPr/>
        </p:nvPicPr>
        <p:blipFill>
          <a:blip r:embed="rId3"/>
          <a:stretch/>
        </p:blipFill>
        <p:spPr>
          <a:xfrm>
            <a:off x="1784520" y="2860560"/>
            <a:ext cx="1495080" cy="978120"/>
          </a:xfrm>
          <a:prstGeom prst="rect">
            <a:avLst/>
          </a:prstGeom>
          <a:ln w="0">
            <a:noFill/>
          </a:ln>
        </p:spPr>
      </p:pic>
      <p:pic>
        <p:nvPicPr>
          <p:cNvPr id="1229" name="图片 8" descr="]PR6`6Y9BP78XHIGYV_(B)T"/>
          <p:cNvPicPr/>
          <p:nvPr/>
        </p:nvPicPr>
        <p:blipFill>
          <a:blip r:embed="rId4"/>
          <a:stretch/>
        </p:blipFill>
        <p:spPr>
          <a:xfrm>
            <a:off x="3954600" y="2951280"/>
            <a:ext cx="1473120" cy="966600"/>
          </a:xfrm>
          <a:prstGeom prst="rect">
            <a:avLst/>
          </a:prstGeom>
          <a:ln w="0">
            <a:noFill/>
          </a:ln>
        </p:spPr>
      </p:pic>
      <p:sp>
        <p:nvSpPr>
          <p:cNvPr id="1230" name="文本框 9"/>
          <p:cNvSpPr/>
          <p:nvPr/>
        </p:nvSpPr>
        <p:spPr>
          <a:xfrm>
            <a:off x="318960" y="4335480"/>
            <a:ext cx="84330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买一辆自行车和一辆滑板车一共需要多少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文本框 10"/>
          <p:cNvSpPr/>
          <p:nvPr/>
        </p:nvSpPr>
        <p:spPr>
          <a:xfrm>
            <a:off x="1974960" y="2448000"/>
            <a:ext cx="1012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文本框 11"/>
          <p:cNvSpPr/>
          <p:nvPr/>
        </p:nvSpPr>
        <p:spPr>
          <a:xfrm>
            <a:off x="3963960" y="2448000"/>
            <a:ext cx="1012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文本框 12"/>
          <p:cNvSpPr/>
          <p:nvPr/>
        </p:nvSpPr>
        <p:spPr>
          <a:xfrm>
            <a:off x="2025720" y="4002120"/>
            <a:ext cx="1012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文本框 13"/>
          <p:cNvSpPr/>
          <p:nvPr/>
        </p:nvSpPr>
        <p:spPr>
          <a:xfrm>
            <a:off x="4184640" y="4002120"/>
            <a:ext cx="1012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文本框 14"/>
          <p:cNvSpPr/>
          <p:nvPr/>
        </p:nvSpPr>
        <p:spPr>
          <a:xfrm>
            <a:off x="1784520" y="5000760"/>
            <a:ext cx="35748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29+282=611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文本框 15"/>
          <p:cNvSpPr/>
          <p:nvPr/>
        </p:nvSpPr>
        <p:spPr>
          <a:xfrm>
            <a:off x="987480" y="5711760"/>
            <a:ext cx="7407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买一辆自行车和一辆滑板车一共需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11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组合 2"/>
          <p:cNvGrpSpPr/>
          <p:nvPr/>
        </p:nvGrpSpPr>
        <p:grpSpPr>
          <a:xfrm>
            <a:off x="0" y="101520"/>
            <a:ext cx="3035160" cy="525600"/>
            <a:chOff x="0" y="101520"/>
            <a:chExt cx="3035160" cy="525600"/>
          </a:xfrm>
        </p:grpSpPr>
        <p:pic>
          <p:nvPicPr>
            <p:cNvPr id="1238" name="圆角矩形 13" descr=""/>
            <p:cNvPicPr/>
            <p:nvPr/>
          </p:nvPicPr>
          <p:blipFill>
            <a:blip r:embed="rId5"/>
            <a:stretch/>
          </p:blipFill>
          <p:spPr>
            <a:xfrm>
              <a:off x="138960" y="101520"/>
              <a:ext cx="2896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9" name="组合 4"/>
            <p:cNvGrpSpPr/>
            <p:nvPr/>
          </p:nvGrpSpPr>
          <p:grpSpPr>
            <a:xfrm>
              <a:off x="0" y="197280"/>
              <a:ext cx="401400" cy="272160"/>
              <a:chOff x="0" y="197280"/>
              <a:chExt cx="401400" cy="272160"/>
            </a:xfrm>
          </p:grpSpPr>
          <p:sp>
            <p:nvSpPr>
              <p:cNvPr id="1240" name="椭圆 14"/>
              <p:cNvSpPr/>
              <p:nvPr/>
            </p:nvSpPr>
            <p:spPr>
              <a:xfrm rot="16200000">
                <a:off x="236520" y="36216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1" name="椭圆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94400" y="33084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2" name="椭圆 16"/>
              <p:cNvSpPr/>
              <p:nvPr/>
            </p:nvSpPr>
            <p:spPr>
              <a:xfrm rot="16200000">
                <a:off x="236520" y="23760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3" name="椭圆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94400" y="21240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4" name="圆角矩形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34776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5" name="圆角矩形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31824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6" name="圆角矩形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22680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7" name="圆角矩形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19728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文本框 3"/>
          <p:cNvSpPr/>
          <p:nvPr/>
        </p:nvSpPr>
        <p:spPr>
          <a:xfrm>
            <a:off x="558720" y="627120"/>
            <a:ext cx="55976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2)5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可以买到哪两件商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文本框 4"/>
          <p:cNvSpPr/>
          <p:nvPr/>
        </p:nvSpPr>
        <p:spPr>
          <a:xfrm>
            <a:off x="558720" y="2705040"/>
            <a:ext cx="80517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明明的妈妈想买一个复读机和一辆滑板车，应该准备多少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文本框 5"/>
          <p:cNvSpPr/>
          <p:nvPr/>
        </p:nvSpPr>
        <p:spPr>
          <a:xfrm>
            <a:off x="633240" y="4460760"/>
            <a:ext cx="63072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你还能提出什么数字问题？请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文本框 14"/>
          <p:cNvSpPr/>
          <p:nvPr/>
        </p:nvSpPr>
        <p:spPr>
          <a:xfrm>
            <a:off x="1092240" y="1666800"/>
            <a:ext cx="3575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案不唯一，合理即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文本框 6"/>
          <p:cNvSpPr/>
          <p:nvPr/>
        </p:nvSpPr>
        <p:spPr>
          <a:xfrm>
            <a:off x="1262160" y="3616200"/>
            <a:ext cx="64738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把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85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看成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00,282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看成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00,100+300=40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文本框 8"/>
          <p:cNvSpPr/>
          <p:nvPr/>
        </p:nvSpPr>
        <p:spPr>
          <a:xfrm>
            <a:off x="1092240" y="4154400"/>
            <a:ext cx="43275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应该准备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40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文本框 9"/>
          <p:cNvSpPr/>
          <p:nvPr/>
        </p:nvSpPr>
        <p:spPr>
          <a:xfrm>
            <a:off x="1262160" y="5330880"/>
            <a:ext cx="3574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案不唯一，合理即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5" name="组合 2"/>
          <p:cNvGrpSpPr/>
          <p:nvPr/>
        </p:nvGrpSpPr>
        <p:grpSpPr>
          <a:xfrm>
            <a:off x="0" y="101520"/>
            <a:ext cx="3035160" cy="525600"/>
            <a:chOff x="0" y="101520"/>
            <a:chExt cx="3035160" cy="525600"/>
          </a:xfrm>
        </p:grpSpPr>
        <p:pic>
          <p:nvPicPr>
            <p:cNvPr id="1256" name="圆角矩形 13" descr=""/>
            <p:cNvPicPr/>
            <p:nvPr/>
          </p:nvPicPr>
          <p:blipFill>
            <a:blip r:embed="rId1"/>
            <a:stretch/>
          </p:blipFill>
          <p:spPr>
            <a:xfrm>
              <a:off x="138960" y="101520"/>
              <a:ext cx="2896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7" name="组合 4"/>
            <p:cNvGrpSpPr/>
            <p:nvPr/>
          </p:nvGrpSpPr>
          <p:grpSpPr>
            <a:xfrm>
              <a:off x="0" y="197280"/>
              <a:ext cx="401400" cy="272160"/>
              <a:chOff x="0" y="197280"/>
              <a:chExt cx="401400" cy="272160"/>
            </a:xfrm>
          </p:grpSpPr>
          <p:sp>
            <p:nvSpPr>
              <p:cNvPr id="1258" name="椭圆 14"/>
              <p:cNvSpPr/>
              <p:nvPr/>
            </p:nvSpPr>
            <p:spPr>
              <a:xfrm rot="16200000">
                <a:off x="236520" y="36216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9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400" y="33084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0" name="椭圆 16"/>
              <p:cNvSpPr/>
              <p:nvPr/>
            </p:nvSpPr>
            <p:spPr>
              <a:xfrm rot="16200000">
                <a:off x="236520" y="23760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1" name="椭圆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400" y="21240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2" name="圆角矩形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776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3" name="圆角矩形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824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4" name="圆角矩形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680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5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2522520" cy="525600"/>
            <a:chOff x="0" y="101520"/>
            <a:chExt cx="2522520" cy="525600"/>
          </a:xfrm>
        </p:grpSpPr>
        <p:pic>
          <p:nvPicPr>
            <p:cNvPr id="999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10880" y="101520"/>
              <a:ext cx="24116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331920" cy="272160"/>
              <a:chOff x="0" y="197280"/>
              <a:chExt cx="331920" cy="272160"/>
            </a:xfrm>
          </p:grpSpPr>
          <p:sp>
            <p:nvSpPr>
              <p:cNvPr id="1001" name="椭圆 2"/>
              <p:cNvSpPr/>
              <p:nvPr/>
            </p:nvSpPr>
            <p:spPr>
              <a:xfrm rot="16200000">
                <a:off x="223920" y="349200"/>
                <a:ext cx="86040" cy="109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8240" y="339480"/>
                <a:ext cx="19368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23920" y="238680"/>
                <a:ext cx="86040" cy="109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38240" y="213480"/>
                <a:ext cx="19368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7840"/>
                <a:ext cx="2631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6160"/>
                <a:ext cx="2631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8600"/>
                <a:ext cx="2631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26316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09" name="组合 20"/>
          <p:cNvGrpSpPr/>
          <p:nvPr/>
        </p:nvGrpSpPr>
        <p:grpSpPr>
          <a:xfrm>
            <a:off x="139680" y="954000"/>
            <a:ext cx="8777160" cy="4950000"/>
            <a:chOff x="139680" y="954000"/>
            <a:chExt cx="8777160" cy="4950000"/>
          </a:xfrm>
        </p:grpSpPr>
        <p:sp>
          <p:nvSpPr>
            <p:cNvPr id="1010" name="文本框 1"/>
            <p:cNvSpPr/>
            <p:nvPr/>
          </p:nvSpPr>
          <p:spPr>
            <a:xfrm>
              <a:off x="139680" y="3805560"/>
              <a:ext cx="2405160" cy="13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万以内的加法和减法（二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1" name="组合 16"/>
            <p:cNvGrpSpPr/>
            <p:nvPr/>
          </p:nvGrpSpPr>
          <p:grpSpPr>
            <a:xfrm>
              <a:off x="2398680" y="954000"/>
              <a:ext cx="6518160" cy="4950000"/>
              <a:chOff x="2398680" y="954000"/>
              <a:chExt cx="6518160" cy="4950000"/>
            </a:xfrm>
          </p:grpSpPr>
          <p:sp>
            <p:nvSpPr>
              <p:cNvPr id="1012" name="AutoShape 20"/>
              <p:cNvSpPr/>
              <p:nvPr/>
            </p:nvSpPr>
            <p:spPr>
              <a:xfrm flipV="1" rot="10800000">
                <a:off x="2398680" y="1340280"/>
                <a:ext cx="145800" cy="4156560"/>
              </a:xfrm>
              <a:custGeom>
                <a:avLst/>
                <a:gdLst>
                  <a:gd name="textAreaLeft" fmla="*/ 0 w 145800"/>
                  <a:gd name="textAreaRight" fmla="*/ 52560 w 145800"/>
                  <a:gd name="textAreaTop" fmla="*/ 44280 h 4156560"/>
                  <a:gd name="textAreaBottom" fmla="*/ 4112280 h 415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369"/>
                      <a:pt x="10800" y="738"/>
                    </a:cubicBezTo>
                    <a:lnTo>
                      <a:pt x="10800" y="10062"/>
                    </a:lnTo>
                    <a:cubicBezTo>
                      <a:pt x="10800" y="10431"/>
                      <a:pt x="16200" y="10800"/>
                      <a:pt x="21600" y="10800"/>
                    </a:cubicBezTo>
                    <a:cubicBezTo>
                      <a:pt x="16200" y="10800"/>
                      <a:pt x="10800" y="11169"/>
                      <a:pt x="10800" y="11538"/>
                    </a:cubicBezTo>
                    <a:lnTo>
                      <a:pt x="10800" y="20862"/>
                    </a:lnTo>
                    <a:cubicBezTo>
                      <a:pt x="10800" y="21231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圆角矩形 4"/>
              <p:cNvSpPr/>
              <p:nvPr/>
            </p:nvSpPr>
            <p:spPr>
              <a:xfrm>
                <a:off x="2615400" y="2199600"/>
                <a:ext cx="2232720" cy="10789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圆角矩形 8"/>
              <p:cNvSpPr/>
              <p:nvPr/>
            </p:nvSpPr>
            <p:spPr>
              <a:xfrm>
                <a:off x="2615400" y="3452760"/>
                <a:ext cx="2232720" cy="1089360"/>
              </a:xfrm>
              <a:prstGeom prst="roundRect">
                <a:avLst>
                  <a:gd name="adj" fmla="val 23898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圆角矩形 9"/>
              <p:cNvSpPr/>
              <p:nvPr/>
            </p:nvSpPr>
            <p:spPr>
              <a:xfrm>
                <a:off x="2586240" y="4720680"/>
                <a:ext cx="2232720" cy="10785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右箭头 10"/>
              <p:cNvSpPr/>
              <p:nvPr/>
            </p:nvSpPr>
            <p:spPr>
              <a:xfrm>
                <a:off x="5137920" y="2631240"/>
                <a:ext cx="360000" cy="287640"/>
              </a:xfrm>
              <a:prstGeom prst="rightArrow">
                <a:avLst>
                  <a:gd name="adj1" fmla="val 50000"/>
                  <a:gd name="adj2" fmla="val 4999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右箭头 11"/>
              <p:cNvSpPr/>
              <p:nvPr/>
            </p:nvSpPr>
            <p:spPr>
              <a:xfrm>
                <a:off x="5137920" y="3881160"/>
                <a:ext cx="360000" cy="287640"/>
              </a:xfrm>
              <a:prstGeom prst="rightArrow">
                <a:avLst>
                  <a:gd name="adj1" fmla="val 50000"/>
                  <a:gd name="adj2" fmla="val 4999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文本框 10"/>
              <p:cNvSpPr/>
              <p:nvPr/>
            </p:nvSpPr>
            <p:spPr>
              <a:xfrm>
                <a:off x="2615400" y="1017720"/>
                <a:ext cx="2373480" cy="118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三位数加两、三位数的计算方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文本框 12"/>
              <p:cNvSpPr/>
              <p:nvPr/>
            </p:nvSpPr>
            <p:spPr>
              <a:xfrm>
                <a:off x="2586240" y="2262240"/>
                <a:ext cx="2373120" cy="9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三位数减两、三位数的计算方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文本框 14"/>
              <p:cNvSpPr/>
              <p:nvPr/>
            </p:nvSpPr>
            <p:spPr>
              <a:xfrm>
                <a:off x="2626920" y="4720680"/>
                <a:ext cx="2292480" cy="11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选择合适的计算策略解决实际问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文本框 15"/>
              <p:cNvSpPr/>
              <p:nvPr/>
            </p:nvSpPr>
            <p:spPr>
              <a:xfrm>
                <a:off x="5699880" y="1144440"/>
                <a:ext cx="3216960" cy="69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哪一位相加满十要向前一位进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，计算时不要忘记加进位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文本框 16"/>
              <p:cNvSpPr/>
              <p:nvPr/>
            </p:nvSpPr>
            <p:spPr>
              <a:xfrm>
                <a:off x="5733000" y="2470680"/>
                <a:ext cx="2886120" cy="6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哪一位上不够减，从前一位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，在本位上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10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再减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矩形 17"/>
              <p:cNvSpPr/>
              <p:nvPr/>
            </p:nvSpPr>
            <p:spPr>
              <a:xfrm>
                <a:off x="5699880" y="1144440"/>
                <a:ext cx="2952720" cy="698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矩形 18"/>
              <p:cNvSpPr/>
              <p:nvPr/>
            </p:nvSpPr>
            <p:spPr>
              <a:xfrm>
                <a:off x="5699880" y="2415960"/>
                <a:ext cx="2952720" cy="646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矩形 19"/>
              <p:cNvSpPr/>
              <p:nvPr/>
            </p:nvSpPr>
            <p:spPr>
              <a:xfrm>
                <a:off x="5666040" y="3452760"/>
                <a:ext cx="2952720" cy="79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文本框 20"/>
              <p:cNvSpPr/>
              <p:nvPr/>
            </p:nvSpPr>
            <p:spPr>
              <a:xfrm>
                <a:off x="5699880" y="3546720"/>
                <a:ext cx="2952720" cy="86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验算减法时，用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宋体"/>
                  </a:rPr>
                  <a:t>“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差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宋体"/>
                  </a:rPr>
                  <a:t>+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减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宋体"/>
                  </a:rPr>
                  <a:t>”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的方法进行验算，不容易出错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圆角矩形 13"/>
              <p:cNvSpPr/>
              <p:nvPr/>
            </p:nvSpPr>
            <p:spPr>
              <a:xfrm>
                <a:off x="2656080" y="954000"/>
                <a:ext cx="2232720" cy="10789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文本框 14"/>
              <p:cNvSpPr/>
              <p:nvPr/>
            </p:nvSpPr>
            <p:spPr>
              <a:xfrm>
                <a:off x="2710080" y="3546720"/>
                <a:ext cx="2045880" cy="91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加、减法的验算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右箭头 15"/>
              <p:cNvSpPr/>
              <p:nvPr/>
            </p:nvSpPr>
            <p:spPr>
              <a:xfrm>
                <a:off x="5137920" y="1464840"/>
                <a:ext cx="360000" cy="287280"/>
              </a:xfrm>
              <a:prstGeom prst="rightArrow">
                <a:avLst>
                  <a:gd name="adj1" fmla="val 50000"/>
                  <a:gd name="adj2" fmla="val 50056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组合 2"/>
          <p:cNvGrpSpPr/>
          <p:nvPr/>
        </p:nvGrpSpPr>
        <p:grpSpPr>
          <a:xfrm>
            <a:off x="0" y="101520"/>
            <a:ext cx="3035160" cy="525600"/>
            <a:chOff x="0" y="101520"/>
            <a:chExt cx="3035160" cy="525600"/>
          </a:xfrm>
        </p:grpSpPr>
        <p:pic>
          <p:nvPicPr>
            <p:cNvPr id="1031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38960" y="101520"/>
              <a:ext cx="2896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2" name="组合 4"/>
            <p:cNvGrpSpPr/>
            <p:nvPr/>
          </p:nvGrpSpPr>
          <p:grpSpPr>
            <a:xfrm>
              <a:off x="0" y="197280"/>
              <a:ext cx="401400" cy="272160"/>
              <a:chOff x="0" y="197280"/>
              <a:chExt cx="401400" cy="272160"/>
            </a:xfrm>
          </p:grpSpPr>
          <p:sp>
            <p:nvSpPr>
              <p:cNvPr id="1033" name="椭圆 2"/>
              <p:cNvSpPr/>
              <p:nvPr/>
            </p:nvSpPr>
            <p:spPr>
              <a:xfrm rot="16200000">
                <a:off x="236520" y="36216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4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400" y="33084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椭圆 29"/>
              <p:cNvSpPr/>
              <p:nvPr/>
            </p:nvSpPr>
            <p:spPr>
              <a:xfrm rot="16200000">
                <a:off x="236520" y="23760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400" y="21240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776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824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680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1" name="矩形 3"/>
          <p:cNvSpPr/>
          <p:nvPr/>
        </p:nvSpPr>
        <p:spPr>
          <a:xfrm>
            <a:off x="71280" y="1141560"/>
            <a:ext cx="89298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13+587       229+85        671+322     160+59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哪些算式中的个位相加不需要进位？哪些算式中个位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十位都要进位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计算时要注意哪些问题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2692800" y="2498760"/>
            <a:ext cx="3131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71+322     160+59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2571840" y="3949560"/>
            <a:ext cx="36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进上来的数要加上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矩形 2"/>
          <p:cNvSpPr/>
          <p:nvPr/>
        </p:nvSpPr>
        <p:spPr>
          <a:xfrm>
            <a:off x="71280" y="998640"/>
            <a:ext cx="89298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  862-715       739-58        310-224     400-31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哪些算式中的个位相减不需要退位？哪些算式中个位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十位都要退位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计算时要注意哪些问题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3"/>
          <p:cNvSpPr/>
          <p:nvPr/>
        </p:nvSpPr>
        <p:spPr>
          <a:xfrm>
            <a:off x="1357200" y="2141640"/>
            <a:ext cx="757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39-58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个位相减不需要退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62-715  310-224  400-319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个位、十位都要退位。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4"/>
          <p:cNvSpPr/>
          <p:nvPr/>
        </p:nvSpPr>
        <p:spPr>
          <a:xfrm>
            <a:off x="1214280" y="3713040"/>
            <a:ext cx="721548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相同数位对齐，从个位减起。哪一位上的数不够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减，要从前位退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当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与本位上的数合起来再减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组合 2"/>
          <p:cNvGrpSpPr/>
          <p:nvPr/>
        </p:nvGrpSpPr>
        <p:grpSpPr>
          <a:xfrm>
            <a:off x="0" y="101520"/>
            <a:ext cx="3035160" cy="525600"/>
            <a:chOff x="0" y="101520"/>
            <a:chExt cx="3035160" cy="525600"/>
          </a:xfrm>
        </p:grpSpPr>
        <p:pic>
          <p:nvPicPr>
            <p:cNvPr id="1048" name="圆角矩形 6" descr=""/>
            <p:cNvPicPr/>
            <p:nvPr/>
          </p:nvPicPr>
          <p:blipFill>
            <a:blip r:embed="rId1"/>
            <a:stretch/>
          </p:blipFill>
          <p:spPr>
            <a:xfrm>
              <a:off x="138960" y="101520"/>
              <a:ext cx="2896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9" name="组合 4"/>
            <p:cNvGrpSpPr/>
            <p:nvPr/>
          </p:nvGrpSpPr>
          <p:grpSpPr>
            <a:xfrm>
              <a:off x="0" y="197280"/>
              <a:ext cx="401400" cy="272160"/>
              <a:chOff x="0" y="197280"/>
              <a:chExt cx="401400" cy="272160"/>
            </a:xfrm>
          </p:grpSpPr>
          <p:sp>
            <p:nvSpPr>
              <p:cNvPr id="1050" name="椭圆 8"/>
              <p:cNvSpPr/>
              <p:nvPr/>
            </p:nvSpPr>
            <p:spPr>
              <a:xfrm rot="16200000">
                <a:off x="236520" y="36216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1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400" y="33084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2" name="椭圆 10"/>
              <p:cNvSpPr/>
              <p:nvPr/>
            </p:nvSpPr>
            <p:spPr>
              <a:xfrm rot="16200000">
                <a:off x="236520" y="23760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400" y="21240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圆角矩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776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824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圆角矩形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680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圆角矩形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矩形 2"/>
          <p:cNvSpPr/>
          <p:nvPr/>
        </p:nvSpPr>
        <p:spPr>
          <a:xfrm>
            <a:off x="0" y="627120"/>
            <a:ext cx="8929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计算下面各题。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7+225     263+678      324-143     701-4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圈出得数大于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的算式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今天准备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张快递单够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还差多少张快递单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3"/>
          <p:cNvSpPr/>
          <p:nvPr/>
        </p:nvSpPr>
        <p:spPr>
          <a:xfrm>
            <a:off x="2245680" y="107316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6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4"/>
          <p:cNvSpPr/>
          <p:nvPr/>
        </p:nvSpPr>
        <p:spPr>
          <a:xfrm>
            <a:off x="1214280" y="2643120"/>
            <a:ext cx="721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59+97    969-789    104+89     300-10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5"/>
          <p:cNvSpPr/>
          <p:nvPr/>
        </p:nvSpPr>
        <p:spPr>
          <a:xfrm>
            <a:off x="4174560" y="102384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94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6"/>
          <p:cNvSpPr/>
          <p:nvPr/>
        </p:nvSpPr>
        <p:spPr>
          <a:xfrm>
            <a:off x="6206400" y="102384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18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7"/>
          <p:cNvSpPr/>
          <p:nvPr/>
        </p:nvSpPr>
        <p:spPr>
          <a:xfrm>
            <a:off x="8135280" y="102384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9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椭圆 8"/>
          <p:cNvSpPr/>
          <p:nvPr/>
        </p:nvSpPr>
        <p:spPr>
          <a:xfrm>
            <a:off x="1071720" y="2571840"/>
            <a:ext cx="1428480" cy="571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Picture 2" descr="D:\我的文档-桌面-收藏夹\桌面\1.jpg"/>
          <p:cNvPicPr/>
          <p:nvPr/>
        </p:nvPicPr>
        <p:blipFill>
          <a:blip r:embed="rId1"/>
          <a:srcRect l="23078" t="171" r="0" b="34939"/>
          <a:stretch/>
        </p:blipFill>
        <p:spPr>
          <a:xfrm>
            <a:off x="1428840" y="3714840"/>
            <a:ext cx="2143080" cy="1857240"/>
          </a:xfrm>
          <a:prstGeom prst="rect">
            <a:avLst/>
          </a:prstGeom>
          <a:ln w="0">
            <a:noFill/>
          </a:ln>
        </p:spPr>
      </p:pic>
      <p:sp>
        <p:nvSpPr>
          <p:cNvPr id="1066" name="圆角矩形标注 11"/>
          <p:cNvSpPr/>
          <p:nvPr/>
        </p:nvSpPr>
        <p:spPr>
          <a:xfrm>
            <a:off x="3571920" y="3336840"/>
            <a:ext cx="4286160" cy="1000080"/>
          </a:xfrm>
          <a:prstGeom prst="wedgeRoundRectCallout">
            <a:avLst>
              <a:gd name="adj1" fmla="val -62203"/>
              <a:gd name="adj2" fmla="val -1316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我的网上书店上午接了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279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个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订单，下午接了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395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个订单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12"/>
          <p:cNvSpPr/>
          <p:nvPr/>
        </p:nvSpPr>
        <p:spPr>
          <a:xfrm>
            <a:off x="3714840" y="5240160"/>
            <a:ext cx="4039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95+279=67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张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74-600=7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张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：不够，还差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张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组合 2"/>
          <p:cNvGrpSpPr/>
          <p:nvPr/>
        </p:nvGrpSpPr>
        <p:grpSpPr>
          <a:xfrm>
            <a:off x="0" y="101520"/>
            <a:ext cx="3035160" cy="525600"/>
            <a:chOff x="0" y="101520"/>
            <a:chExt cx="3035160" cy="525600"/>
          </a:xfrm>
        </p:grpSpPr>
        <p:pic>
          <p:nvPicPr>
            <p:cNvPr id="1069" name="圆角矩形 13" descr=""/>
            <p:cNvPicPr/>
            <p:nvPr/>
          </p:nvPicPr>
          <p:blipFill>
            <a:blip r:embed="rId2"/>
            <a:stretch/>
          </p:blipFill>
          <p:spPr>
            <a:xfrm>
              <a:off x="138960" y="101520"/>
              <a:ext cx="2896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0" name="组合 4"/>
            <p:cNvGrpSpPr/>
            <p:nvPr/>
          </p:nvGrpSpPr>
          <p:grpSpPr>
            <a:xfrm>
              <a:off x="0" y="197280"/>
              <a:ext cx="401400" cy="272160"/>
              <a:chOff x="0" y="197280"/>
              <a:chExt cx="401400" cy="272160"/>
            </a:xfrm>
          </p:grpSpPr>
          <p:sp>
            <p:nvSpPr>
              <p:cNvPr id="1071" name="椭圆 14"/>
              <p:cNvSpPr/>
              <p:nvPr/>
            </p:nvSpPr>
            <p:spPr>
              <a:xfrm rot="16200000">
                <a:off x="236520" y="36216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2" name="椭圆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400" y="33084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3" name="椭圆 16"/>
              <p:cNvSpPr/>
              <p:nvPr/>
            </p:nvSpPr>
            <p:spPr>
              <a:xfrm rot="16200000">
                <a:off x="236520" y="23760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4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194400" y="21240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5" name="圆角矩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776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圆角矩形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824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680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728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文本框 4"/>
          <p:cNvSpPr/>
          <p:nvPr/>
        </p:nvSpPr>
        <p:spPr>
          <a:xfrm>
            <a:off x="349200" y="749160"/>
            <a:ext cx="2352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8"/>
          <p:cNvSpPr/>
          <p:nvPr/>
        </p:nvSpPr>
        <p:spPr>
          <a:xfrm>
            <a:off x="349200" y="1158840"/>
            <a:ext cx="80280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大的两位数与最小三位数的和是（    ），差是（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9"/>
          <p:cNvSpPr/>
          <p:nvPr/>
        </p:nvSpPr>
        <p:spPr>
          <a:xfrm>
            <a:off x="466560" y="2044800"/>
            <a:ext cx="81439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用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组成一个最大的三位数是（   ），最小的三位数是（   ），它们的和是（   ），差是（ 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10"/>
          <p:cNvSpPr/>
          <p:nvPr/>
        </p:nvSpPr>
        <p:spPr>
          <a:xfrm>
            <a:off x="523800" y="3311640"/>
            <a:ext cx="80280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估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98-39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9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接近（   ）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9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接近（   ），所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98-39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结果大约是（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11"/>
          <p:cNvSpPr/>
          <p:nvPr/>
        </p:nvSpPr>
        <p:spPr>
          <a:xfrm>
            <a:off x="466560" y="4672080"/>
            <a:ext cx="81439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验算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78-289=189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时，可以用（         ），看得数是不是（    ），也可以用（         ），看得数是不是（  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3"/>
          <p:cNvSpPr/>
          <p:nvPr/>
        </p:nvSpPr>
        <p:spPr>
          <a:xfrm>
            <a:off x="5564160" y="1255680"/>
            <a:ext cx="8319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文本框 4"/>
          <p:cNvSpPr/>
          <p:nvPr/>
        </p:nvSpPr>
        <p:spPr>
          <a:xfrm>
            <a:off x="801720" y="1803240"/>
            <a:ext cx="4395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文本框 5"/>
          <p:cNvSpPr/>
          <p:nvPr/>
        </p:nvSpPr>
        <p:spPr>
          <a:xfrm>
            <a:off x="5999040" y="2184480"/>
            <a:ext cx="833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文本框 6"/>
          <p:cNvSpPr/>
          <p:nvPr/>
        </p:nvSpPr>
        <p:spPr>
          <a:xfrm>
            <a:off x="1660680" y="2789280"/>
            <a:ext cx="8316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文本框 8"/>
          <p:cNvSpPr/>
          <p:nvPr/>
        </p:nvSpPr>
        <p:spPr>
          <a:xfrm>
            <a:off x="4730760" y="2809800"/>
            <a:ext cx="833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9"/>
          <p:cNvSpPr/>
          <p:nvPr/>
        </p:nvSpPr>
        <p:spPr>
          <a:xfrm>
            <a:off x="6832440" y="2789280"/>
            <a:ext cx="8319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文本框 10"/>
          <p:cNvSpPr/>
          <p:nvPr/>
        </p:nvSpPr>
        <p:spPr>
          <a:xfrm>
            <a:off x="4449600" y="3556080"/>
            <a:ext cx="8319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文本框 11"/>
          <p:cNvSpPr/>
          <p:nvPr/>
        </p:nvSpPr>
        <p:spPr>
          <a:xfrm>
            <a:off x="6888240" y="3556080"/>
            <a:ext cx="8316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文本框 12"/>
          <p:cNvSpPr/>
          <p:nvPr/>
        </p:nvSpPr>
        <p:spPr>
          <a:xfrm>
            <a:off x="4017960" y="4114800"/>
            <a:ext cx="833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文本框 13"/>
          <p:cNvSpPr/>
          <p:nvPr/>
        </p:nvSpPr>
        <p:spPr>
          <a:xfrm>
            <a:off x="5138640" y="4740120"/>
            <a:ext cx="15987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9+2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14"/>
          <p:cNvSpPr/>
          <p:nvPr/>
        </p:nvSpPr>
        <p:spPr>
          <a:xfrm>
            <a:off x="1409760" y="5295960"/>
            <a:ext cx="8334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文本框 15"/>
          <p:cNvSpPr/>
          <p:nvPr/>
        </p:nvSpPr>
        <p:spPr>
          <a:xfrm>
            <a:off x="4307040" y="5295960"/>
            <a:ext cx="14284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78-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文本框 16"/>
          <p:cNvSpPr/>
          <p:nvPr/>
        </p:nvSpPr>
        <p:spPr>
          <a:xfrm>
            <a:off x="828720" y="5918040"/>
            <a:ext cx="8319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组合 2"/>
          <p:cNvGrpSpPr/>
          <p:nvPr/>
        </p:nvGrpSpPr>
        <p:grpSpPr>
          <a:xfrm>
            <a:off x="0" y="101520"/>
            <a:ext cx="3035160" cy="525600"/>
            <a:chOff x="0" y="101520"/>
            <a:chExt cx="3035160" cy="525600"/>
          </a:xfrm>
        </p:grpSpPr>
        <p:pic>
          <p:nvPicPr>
            <p:cNvPr id="1098" name="圆角矩形 13" descr=""/>
            <p:cNvPicPr/>
            <p:nvPr/>
          </p:nvPicPr>
          <p:blipFill>
            <a:blip r:embed="rId1"/>
            <a:stretch/>
          </p:blipFill>
          <p:spPr>
            <a:xfrm>
              <a:off x="138960" y="101520"/>
              <a:ext cx="2896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9" name="组合 4"/>
            <p:cNvGrpSpPr/>
            <p:nvPr/>
          </p:nvGrpSpPr>
          <p:grpSpPr>
            <a:xfrm>
              <a:off x="0" y="197280"/>
              <a:ext cx="401400" cy="272160"/>
              <a:chOff x="0" y="197280"/>
              <a:chExt cx="401400" cy="272160"/>
            </a:xfrm>
          </p:grpSpPr>
          <p:sp>
            <p:nvSpPr>
              <p:cNvPr id="1100" name="椭圆 14"/>
              <p:cNvSpPr/>
              <p:nvPr/>
            </p:nvSpPr>
            <p:spPr>
              <a:xfrm rot="16200000">
                <a:off x="236520" y="36216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1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400" y="33084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椭圆 16"/>
              <p:cNvSpPr/>
              <p:nvPr/>
            </p:nvSpPr>
            <p:spPr>
              <a:xfrm rot="16200000">
                <a:off x="236520" y="23760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3" name="椭圆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400" y="21240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776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824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680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文本框 3"/>
          <p:cNvSpPr/>
          <p:nvPr/>
        </p:nvSpPr>
        <p:spPr>
          <a:xfrm>
            <a:off x="276120" y="787320"/>
            <a:ext cx="3216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文本框 4"/>
          <p:cNvSpPr/>
          <p:nvPr/>
        </p:nvSpPr>
        <p:spPr>
          <a:xfrm>
            <a:off x="423720" y="1500120"/>
            <a:ext cx="3640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直接写出得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文本框 5"/>
          <p:cNvSpPr/>
          <p:nvPr/>
        </p:nvSpPr>
        <p:spPr>
          <a:xfrm>
            <a:off x="498600" y="2203560"/>
            <a:ext cx="6656400" cy="26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80-90=                964-74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58+40=                896-45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57+230=               364+8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文本框 5"/>
          <p:cNvSpPr/>
          <p:nvPr/>
        </p:nvSpPr>
        <p:spPr>
          <a:xfrm>
            <a:off x="1986120" y="2597040"/>
            <a:ext cx="831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文本框 6"/>
          <p:cNvSpPr/>
          <p:nvPr/>
        </p:nvSpPr>
        <p:spPr>
          <a:xfrm>
            <a:off x="6170760" y="2597040"/>
            <a:ext cx="833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8"/>
          <p:cNvSpPr/>
          <p:nvPr/>
        </p:nvSpPr>
        <p:spPr>
          <a:xfrm>
            <a:off x="1986120" y="3470400"/>
            <a:ext cx="831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9"/>
          <p:cNvSpPr/>
          <p:nvPr/>
        </p:nvSpPr>
        <p:spPr>
          <a:xfrm>
            <a:off x="6170760" y="3470400"/>
            <a:ext cx="833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10"/>
          <p:cNvSpPr/>
          <p:nvPr/>
        </p:nvSpPr>
        <p:spPr>
          <a:xfrm>
            <a:off x="2124000" y="4344840"/>
            <a:ext cx="833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11"/>
          <p:cNvSpPr/>
          <p:nvPr/>
        </p:nvSpPr>
        <p:spPr>
          <a:xfrm>
            <a:off x="6170760" y="4344840"/>
            <a:ext cx="833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组合 2"/>
          <p:cNvGrpSpPr/>
          <p:nvPr/>
        </p:nvGrpSpPr>
        <p:grpSpPr>
          <a:xfrm>
            <a:off x="0" y="101520"/>
            <a:ext cx="3035160" cy="525600"/>
            <a:chOff x="0" y="101520"/>
            <a:chExt cx="3035160" cy="525600"/>
          </a:xfrm>
        </p:grpSpPr>
        <p:pic>
          <p:nvPicPr>
            <p:cNvPr id="1118" name="圆角矩形 4" descr=""/>
            <p:cNvPicPr/>
            <p:nvPr/>
          </p:nvPicPr>
          <p:blipFill>
            <a:blip r:embed="rId1"/>
            <a:stretch/>
          </p:blipFill>
          <p:spPr>
            <a:xfrm>
              <a:off x="138960" y="101520"/>
              <a:ext cx="2896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9" name="组合 4"/>
            <p:cNvGrpSpPr/>
            <p:nvPr/>
          </p:nvGrpSpPr>
          <p:grpSpPr>
            <a:xfrm>
              <a:off x="0" y="197280"/>
              <a:ext cx="401400" cy="272160"/>
              <a:chOff x="0" y="197280"/>
              <a:chExt cx="401400" cy="272160"/>
            </a:xfrm>
          </p:grpSpPr>
          <p:sp>
            <p:nvSpPr>
              <p:cNvPr id="1120" name="椭圆 6"/>
              <p:cNvSpPr/>
              <p:nvPr/>
            </p:nvSpPr>
            <p:spPr>
              <a:xfrm rot="16200000">
                <a:off x="236520" y="36216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1" name="椭圆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400" y="33084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2" name="椭圆 9"/>
              <p:cNvSpPr/>
              <p:nvPr/>
            </p:nvSpPr>
            <p:spPr>
              <a:xfrm rot="16200000">
                <a:off x="236520" y="23760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3" name="椭圆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400" y="21240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圆角矩形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776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5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824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6" name="圆角矩形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680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圆角矩形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文本框 3"/>
          <p:cNvSpPr/>
          <p:nvPr/>
        </p:nvSpPr>
        <p:spPr>
          <a:xfrm>
            <a:off x="423720" y="968400"/>
            <a:ext cx="3861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估一估，连一连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4"/>
          <p:cNvSpPr/>
          <p:nvPr/>
        </p:nvSpPr>
        <p:spPr>
          <a:xfrm>
            <a:off x="988920" y="2886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图片 5" descr="03MXZ{CI`2E}_W`L)4SDWSK"/>
          <p:cNvPicPr/>
          <p:nvPr/>
        </p:nvPicPr>
        <p:blipFill>
          <a:blip r:embed="rId1"/>
          <a:stretch/>
        </p:blipFill>
        <p:spPr>
          <a:xfrm flipH="1" rot="3720600">
            <a:off x="809280" y="1758600"/>
            <a:ext cx="1326960" cy="1457640"/>
          </a:xfrm>
          <a:prstGeom prst="rect">
            <a:avLst/>
          </a:prstGeom>
          <a:ln w="0">
            <a:noFill/>
          </a:ln>
        </p:spPr>
      </p:pic>
      <p:pic>
        <p:nvPicPr>
          <p:cNvPr id="1131" name="图片 6" descr="03MXZ{CI`2E}_W`L)4SDWSK"/>
          <p:cNvPicPr/>
          <p:nvPr/>
        </p:nvPicPr>
        <p:blipFill>
          <a:blip r:embed="rId2"/>
          <a:stretch/>
        </p:blipFill>
        <p:spPr>
          <a:xfrm flipH="1" rot="3720600">
            <a:off x="5494680" y="1759320"/>
            <a:ext cx="1326960" cy="1455840"/>
          </a:xfrm>
          <a:prstGeom prst="rect">
            <a:avLst/>
          </a:prstGeom>
          <a:ln w="0">
            <a:noFill/>
          </a:ln>
        </p:spPr>
      </p:pic>
      <p:pic>
        <p:nvPicPr>
          <p:cNvPr id="1132" name="图片 8" descr="03MXZ{CI`2E}_W`L)4SDWSK"/>
          <p:cNvPicPr/>
          <p:nvPr/>
        </p:nvPicPr>
        <p:blipFill>
          <a:blip r:embed="rId3"/>
          <a:stretch/>
        </p:blipFill>
        <p:spPr>
          <a:xfrm flipH="1" rot="3720600">
            <a:off x="947520" y="4622400"/>
            <a:ext cx="1326960" cy="1457640"/>
          </a:xfrm>
          <a:prstGeom prst="rect">
            <a:avLst/>
          </a:prstGeom>
          <a:ln w="0">
            <a:noFill/>
          </a:ln>
        </p:spPr>
      </p:pic>
      <p:pic>
        <p:nvPicPr>
          <p:cNvPr id="1133" name="图片 9" descr="03MXZ{CI`2E}_W`L)4SDWSK"/>
          <p:cNvPicPr/>
          <p:nvPr/>
        </p:nvPicPr>
        <p:blipFill>
          <a:blip r:embed="rId4"/>
          <a:stretch/>
        </p:blipFill>
        <p:spPr>
          <a:xfrm flipH="1" rot="3720000">
            <a:off x="5706360" y="4516200"/>
            <a:ext cx="1327320" cy="1454040"/>
          </a:xfrm>
          <a:prstGeom prst="rect">
            <a:avLst/>
          </a:prstGeom>
          <a:ln w="0">
            <a:noFill/>
          </a:ln>
        </p:spPr>
      </p:pic>
      <p:sp>
        <p:nvSpPr>
          <p:cNvPr id="1134" name="文本框 10"/>
          <p:cNvSpPr/>
          <p:nvPr/>
        </p:nvSpPr>
        <p:spPr>
          <a:xfrm>
            <a:off x="890640" y="2139840"/>
            <a:ext cx="14414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7+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文本框 11"/>
          <p:cNvSpPr/>
          <p:nvPr/>
        </p:nvSpPr>
        <p:spPr>
          <a:xfrm>
            <a:off x="5437080" y="2222640"/>
            <a:ext cx="14432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78-4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文本框 12"/>
          <p:cNvSpPr/>
          <p:nvPr/>
        </p:nvSpPr>
        <p:spPr>
          <a:xfrm>
            <a:off x="985680" y="5086440"/>
            <a:ext cx="14414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18-2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文本框 13"/>
          <p:cNvSpPr/>
          <p:nvPr/>
        </p:nvSpPr>
        <p:spPr>
          <a:xfrm>
            <a:off x="5670720" y="4979880"/>
            <a:ext cx="14414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6+4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图片 14" descr="B3I_T{FE%A@6NNQ))]HH[%7"/>
          <p:cNvPicPr/>
          <p:nvPr/>
        </p:nvPicPr>
        <p:blipFill>
          <a:blip r:embed="rId5"/>
          <a:stretch/>
        </p:blipFill>
        <p:spPr>
          <a:xfrm>
            <a:off x="2138400" y="3362400"/>
            <a:ext cx="1290600" cy="955440"/>
          </a:xfrm>
          <a:prstGeom prst="rect">
            <a:avLst/>
          </a:prstGeom>
          <a:ln w="0">
            <a:noFill/>
          </a:ln>
        </p:spPr>
      </p:pic>
      <p:pic>
        <p:nvPicPr>
          <p:cNvPr id="1139" name="图片 15" descr="B3I_T{FE%A@6NNQ))]HH[%7"/>
          <p:cNvPicPr/>
          <p:nvPr/>
        </p:nvPicPr>
        <p:blipFill>
          <a:blip r:embed="rId6"/>
          <a:stretch/>
        </p:blipFill>
        <p:spPr>
          <a:xfrm>
            <a:off x="3913200" y="3362400"/>
            <a:ext cx="1290600" cy="955440"/>
          </a:xfrm>
          <a:prstGeom prst="rect">
            <a:avLst/>
          </a:prstGeom>
          <a:ln w="0">
            <a:noFill/>
          </a:ln>
        </p:spPr>
      </p:pic>
      <p:sp>
        <p:nvSpPr>
          <p:cNvPr id="1140" name="文本框 16"/>
          <p:cNvSpPr/>
          <p:nvPr/>
        </p:nvSpPr>
        <p:spPr>
          <a:xfrm>
            <a:off x="2332080" y="3416400"/>
            <a:ext cx="97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得数小于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文本框 17"/>
          <p:cNvSpPr/>
          <p:nvPr/>
        </p:nvSpPr>
        <p:spPr>
          <a:xfrm>
            <a:off x="4084560" y="3414600"/>
            <a:ext cx="974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得数大于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直接连接符 3"/>
          <p:cNvSpPr/>
          <p:nvPr/>
        </p:nvSpPr>
        <p:spPr>
          <a:xfrm>
            <a:off x="2038320" y="2949480"/>
            <a:ext cx="372960" cy="408240"/>
          </a:xfrm>
          <a:prstGeom prst="line">
            <a:avLst/>
          </a:prstGeom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直接连接符 4"/>
          <p:cNvSpPr/>
          <p:nvPr/>
        </p:nvSpPr>
        <p:spPr>
          <a:xfrm flipV="1">
            <a:off x="2571840" y="4292280"/>
            <a:ext cx="1639800" cy="839880"/>
          </a:xfrm>
          <a:prstGeom prst="line">
            <a:avLst/>
          </a:prstGeom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直接连接符 5"/>
          <p:cNvSpPr/>
          <p:nvPr/>
        </p:nvSpPr>
        <p:spPr>
          <a:xfrm flipV="1">
            <a:off x="3071880" y="2349360"/>
            <a:ext cx="2147760" cy="844560"/>
          </a:xfrm>
          <a:prstGeom prst="line">
            <a:avLst/>
          </a:prstGeom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直接连接符 6"/>
          <p:cNvSpPr/>
          <p:nvPr/>
        </p:nvSpPr>
        <p:spPr>
          <a:xfrm>
            <a:off x="5027760" y="4292640"/>
            <a:ext cx="527040" cy="577800"/>
          </a:xfrm>
          <a:prstGeom prst="line">
            <a:avLst/>
          </a:prstGeom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6" name="组合 2"/>
          <p:cNvGrpSpPr/>
          <p:nvPr/>
        </p:nvGrpSpPr>
        <p:grpSpPr>
          <a:xfrm>
            <a:off x="0" y="101520"/>
            <a:ext cx="3035160" cy="525600"/>
            <a:chOff x="0" y="101520"/>
            <a:chExt cx="3035160" cy="525600"/>
          </a:xfrm>
        </p:grpSpPr>
        <p:pic>
          <p:nvPicPr>
            <p:cNvPr id="1147" name="圆角矩形 13" descr=""/>
            <p:cNvPicPr/>
            <p:nvPr/>
          </p:nvPicPr>
          <p:blipFill>
            <a:blip r:embed="rId7"/>
            <a:stretch/>
          </p:blipFill>
          <p:spPr>
            <a:xfrm>
              <a:off x="138960" y="101520"/>
              <a:ext cx="2896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8" name="组合 4"/>
            <p:cNvGrpSpPr/>
            <p:nvPr/>
          </p:nvGrpSpPr>
          <p:grpSpPr>
            <a:xfrm>
              <a:off x="0" y="197280"/>
              <a:ext cx="401400" cy="272160"/>
              <a:chOff x="0" y="197280"/>
              <a:chExt cx="401400" cy="272160"/>
            </a:xfrm>
          </p:grpSpPr>
          <p:sp>
            <p:nvSpPr>
              <p:cNvPr id="1149" name="椭圆 14"/>
              <p:cNvSpPr/>
              <p:nvPr/>
            </p:nvSpPr>
            <p:spPr>
              <a:xfrm rot="16200000">
                <a:off x="236520" y="36216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0" name="椭圆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194400" y="33084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1" name="椭圆 16"/>
              <p:cNvSpPr/>
              <p:nvPr/>
            </p:nvSpPr>
            <p:spPr>
              <a:xfrm rot="16200000">
                <a:off x="236520" y="23760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2" name="椭圆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194400" y="21240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圆角矩形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34776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4" name="圆角矩形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31824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5" name="圆角矩形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2680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圆角矩形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0" y="19728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文本框 3"/>
          <p:cNvSpPr/>
          <p:nvPr/>
        </p:nvSpPr>
        <p:spPr>
          <a:xfrm>
            <a:off x="425520" y="765000"/>
            <a:ext cx="29383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竖式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4"/>
          <p:cNvSpPr/>
          <p:nvPr/>
        </p:nvSpPr>
        <p:spPr>
          <a:xfrm>
            <a:off x="606600" y="1692360"/>
            <a:ext cx="22381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98+275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文本框 5"/>
          <p:cNvSpPr/>
          <p:nvPr/>
        </p:nvSpPr>
        <p:spPr>
          <a:xfrm>
            <a:off x="4599000" y="1692360"/>
            <a:ext cx="1938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4+256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文本框 6"/>
          <p:cNvSpPr/>
          <p:nvPr/>
        </p:nvSpPr>
        <p:spPr>
          <a:xfrm>
            <a:off x="2155680" y="1830240"/>
            <a:ext cx="76068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文本框 8"/>
          <p:cNvSpPr/>
          <p:nvPr/>
        </p:nvSpPr>
        <p:spPr>
          <a:xfrm>
            <a:off x="6159600" y="1797120"/>
            <a:ext cx="7588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组合 3"/>
          <p:cNvGrpSpPr/>
          <p:nvPr/>
        </p:nvGrpSpPr>
        <p:grpSpPr>
          <a:xfrm>
            <a:off x="500040" y="2576520"/>
            <a:ext cx="1801800" cy="2292120"/>
            <a:chOff x="500040" y="2576520"/>
            <a:chExt cx="1801800" cy="2292120"/>
          </a:xfrm>
        </p:grpSpPr>
        <p:sp>
          <p:nvSpPr>
            <p:cNvPr id="1163" name="文本框 3"/>
            <p:cNvSpPr/>
            <p:nvPr/>
          </p:nvSpPr>
          <p:spPr>
            <a:xfrm>
              <a:off x="517680" y="2576520"/>
              <a:ext cx="178416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6  9 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+2  7 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文本框 4"/>
            <p:cNvSpPr/>
            <p:nvPr/>
          </p:nvSpPr>
          <p:spPr>
            <a:xfrm>
              <a:off x="633240" y="3981960"/>
              <a:ext cx="141696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直接连接符 5"/>
            <p:cNvSpPr/>
            <p:nvPr/>
          </p:nvSpPr>
          <p:spPr>
            <a:xfrm>
              <a:off x="500040" y="3769200"/>
              <a:ext cx="1416960" cy="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文本框 9"/>
            <p:cNvSpPr/>
            <p:nvPr/>
          </p:nvSpPr>
          <p:spPr>
            <a:xfrm>
              <a:off x="601560" y="4056120"/>
              <a:ext cx="116172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文本框 10"/>
            <p:cNvSpPr/>
            <p:nvPr/>
          </p:nvSpPr>
          <p:spPr>
            <a:xfrm>
              <a:off x="692280" y="3890880"/>
              <a:ext cx="14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9  7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组合 4"/>
          <p:cNvGrpSpPr/>
          <p:nvPr/>
        </p:nvGrpSpPr>
        <p:grpSpPr>
          <a:xfrm>
            <a:off x="4535640" y="2576520"/>
            <a:ext cx="1847520" cy="1879560"/>
            <a:chOff x="4535640" y="2576520"/>
            <a:chExt cx="1847520" cy="1879560"/>
          </a:xfrm>
        </p:grpSpPr>
        <p:sp>
          <p:nvSpPr>
            <p:cNvPr id="1169" name="文本框 11"/>
            <p:cNvSpPr/>
            <p:nvPr/>
          </p:nvSpPr>
          <p:spPr>
            <a:xfrm>
              <a:off x="4599000" y="2576520"/>
              <a:ext cx="178416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6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+2  5 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直接连接符 12"/>
            <p:cNvSpPr/>
            <p:nvPr/>
          </p:nvSpPr>
          <p:spPr>
            <a:xfrm>
              <a:off x="4535640" y="3769200"/>
              <a:ext cx="1416960" cy="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文本框 13"/>
            <p:cNvSpPr/>
            <p:nvPr/>
          </p:nvSpPr>
          <p:spPr>
            <a:xfrm>
              <a:off x="4759560" y="3890880"/>
              <a:ext cx="14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  2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组合 2"/>
          <p:cNvGrpSpPr/>
          <p:nvPr/>
        </p:nvGrpSpPr>
        <p:grpSpPr>
          <a:xfrm>
            <a:off x="0" y="101520"/>
            <a:ext cx="3035160" cy="525600"/>
            <a:chOff x="0" y="101520"/>
            <a:chExt cx="3035160" cy="525600"/>
          </a:xfrm>
        </p:grpSpPr>
        <p:pic>
          <p:nvPicPr>
            <p:cNvPr id="1173" name="圆角矩形 13" descr=""/>
            <p:cNvPicPr/>
            <p:nvPr/>
          </p:nvPicPr>
          <p:blipFill>
            <a:blip r:embed="rId1"/>
            <a:stretch/>
          </p:blipFill>
          <p:spPr>
            <a:xfrm>
              <a:off x="138960" y="101520"/>
              <a:ext cx="2896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4" name="组合 4"/>
            <p:cNvGrpSpPr/>
            <p:nvPr/>
          </p:nvGrpSpPr>
          <p:grpSpPr>
            <a:xfrm>
              <a:off x="0" y="197280"/>
              <a:ext cx="401400" cy="272160"/>
              <a:chOff x="0" y="197280"/>
              <a:chExt cx="401400" cy="272160"/>
            </a:xfrm>
          </p:grpSpPr>
          <p:sp>
            <p:nvSpPr>
              <p:cNvPr id="1175" name="椭圆 14"/>
              <p:cNvSpPr/>
              <p:nvPr/>
            </p:nvSpPr>
            <p:spPr>
              <a:xfrm rot="16200000">
                <a:off x="236520" y="36216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400" y="33084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7" name="椭圆 16"/>
              <p:cNvSpPr/>
              <p:nvPr/>
            </p:nvSpPr>
            <p:spPr>
              <a:xfrm rot="16200000">
                <a:off x="236520" y="237600"/>
                <a:ext cx="97200" cy="11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8" name="椭圆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400" y="212400"/>
                <a:ext cx="207000" cy="11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9" name="圆角矩形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776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0" name="圆角矩形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824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1" name="圆角矩形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680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2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29040" cy="104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6:36:41Z</dcterms:created>
  <dc:creator/>
  <dc:description/>
  <dc:language>en-US</dc:language>
  <cp:lastModifiedBy>万润仪器贸易公司</cp:lastModifiedBy>
  <dcterms:modified xsi:type="dcterms:W3CDTF">2020-08-21T01:20:03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